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coin.wav" ContentType="audio/x-wav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12.png" ContentType="image/png"/>
  <Override PartName="/ppt/media/click.wav" ContentType="audio/x-wav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15BA-765A-4DD6-8C74-B63B4ECFA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1DEF-97D6-48CC-A3EA-E28B9974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1F5239-0415-4889-89D3-B4498CB7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039A34-E44A-4BE9-B121-87D15387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E83740-B37C-475C-AEDA-76AE140B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3FD6C8-A369-47FC-A15D-337D02CF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86BF30-1D3C-4B13-93BD-1532C6EB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53F2F0-5A10-45FC-9CA1-FFED37FF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D91D67-C8FD-45DC-A4BF-63F6192A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8A6C09-48CC-4206-A7CD-32C45BD8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B28242-0B2F-4015-A06E-1CBAEEB45F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5C04-A39D-4B21-9004-B7DE9AC1A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8598-D9E3-437E-BE77-1F930A0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B3C46-3E93-4521-A03C-81AD1F0C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56DC5-B304-4EE1-8406-AB896E22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7A37F-7D41-4096-B53A-9CAFB8ED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8671F-E2B4-4A6D-ACF4-CB57C60C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D8F1C-E23B-4F74-8161-2025E404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B52E9-5D76-46A2-9571-E008D51B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99CE7-055A-417A-9E45-54DE0750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16E3E-863E-41FE-B46A-91E311E3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3E55A-C06C-451D-A09C-0668999A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8D305-B8FB-4666-AAFA-CD69201F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2608-4164-42E7-BF7F-DA2608D7A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8F20-7027-4327-9128-FB273C91D4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AFE9A7-D898-404A-AA77-C3F8EE45D2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BE108A-7DC6-442E-B769-D06175AA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597EF0-1F8E-45EE-A642-58FDCA15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68531-4DA7-4DE3-8418-B81791FC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B2390-AC0D-4667-A4DA-A5CC3976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1F901-280E-44D4-B16D-007B819B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64CBC8-3B93-4E5C-AFC8-F1EEFC24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CA9D0B-7EF2-45EC-B513-EDCCEB95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EFC5CE-9129-46CD-965E-937924F6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C7CFE-77F2-407C-A0AE-E44DCBAE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86B4A4-2FDC-4E56-A8D2-9BCF0174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520B50-D684-4B19-890E-B23F18EE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88521-D28B-4828-A18F-85864DEEF8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CF73B-CF79-431A-8118-5662089293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1D1CF-52C9-46F0-9EE2-F31368D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4E5D2-D968-4F8B-A374-5AEC7FF9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3843E-89F3-4F17-B74F-2201DF11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C2F42-42A5-4751-89FE-981D63F6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F6706-FBF3-4C5C-A3C3-0E0F0F19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E069C-A5A8-4F1B-9558-20CDC12A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F22A6-688D-4D94-B500-42F86DCC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FF00A-FA9A-4EF5-B7A7-835E4BD7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A93F5-7814-4625-B5CE-75E5760E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2DF7D-B4E9-42D3-8F45-303F2F4C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64FE4-FB56-40B8-8B88-6DC6CB2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B6959-0191-429F-AC18-640D99E73C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C29D2-E735-438B-AA5C-223689EEA6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6B064-097D-4E9D-90E9-6BD16639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5F4C1-2E87-4FEC-BAB9-F815D45F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EC760-9DE7-4840-9AE2-7F3A5D5B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25869-93F7-4401-BC02-2E082A0E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E920B-A128-4464-9137-5EF25002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21DF8-E13D-4035-973F-E63C00A4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6C995-D7C3-4838-8D61-3DA48425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6371D-138D-4CCE-BF40-D8EC710B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C352A-DC4B-40E9-ADE7-6DDD5943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391FB-3D80-4949-A8A0-5274CE71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835B8-2CB2-44F4-A198-7FC97809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B931E-8F14-44D8-8C58-834C428755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FA9B9-F0AC-4384-A1FE-F5D6FD20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52C65-CE6F-419E-A236-9005F7D0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FF775-B2A6-494E-9605-14EFEEDA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436D-DAC7-4BCF-9FEC-91458013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2EE9A-B926-486F-B07C-0F87B412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B7227-10B9-445E-9D60-5F89AFEA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20A2E-D449-4D40-89C3-63FAC034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9C68A-CC66-4E86-B8DB-B0E0A1E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45DDD-C6B2-4998-BA49-8B330E2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337F6-D68C-42BA-A0A4-E0D7A7B3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7C225-7033-4224-8876-435C7BB3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2728D-F527-4590-984A-E42E0C64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1373F-FA0D-4EEE-988D-C5F6C071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E4B20-F592-4B37-BBFA-34FD5AE8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1203C-CDCD-4A3C-8135-C71743D2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96D72-543B-4BD4-B44A-514B383E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9B334-55E6-45B3-B45B-847E68E0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B342F-41E3-41BC-A4F3-1A9ADDAA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48740-1369-4B79-89CC-72FFE14A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33F83-4BF9-431D-BFD9-CE2DF99E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719DD-59DE-4905-BC27-B59C6C3D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09011-6003-4E27-ACAA-97C12636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F31A4-B1E3-4B47-BF93-14F8F3C0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B8D28-527E-43C0-BE15-FDBE409C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8ECC3-3E7F-4E54-B185-BA5FDCEC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6D9E8-BD48-4A91-AC65-7CDEAEF1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55F42-7CBF-41C2-8DBC-AA8E0509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A330B-DA47-4ABE-A960-29AFA7F5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41ED8-BA36-44BF-8373-FF81BCFE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F2303-0FA1-458E-9F31-94153787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6B8D6-4112-485E-B6CF-0C7F2C1C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2F7B5-7BBB-44C0-B4AF-6E201415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A4C90-356C-4A9C-91CF-E1AB80EC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81BF6-8B05-42CC-9FA4-F196667B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58E3-FBBA-4F50-9A32-E5B42E1E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9F079-D809-43CF-9CA6-B41B7BA4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AFD1A-5ACA-4471-BC35-77B3DDE4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1F739-5CA1-40C5-9DCF-FDA5AA13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5C557-C67E-4E00-96B1-64CCD9CD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5E5AC-974C-4B9A-BD25-9E4D7E21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7097A-596A-46BA-A31A-042F249B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6EA11-84D6-40F0-91FF-9E228A19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E6455-C0E2-4179-95C9-DAFD4441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A6734-4256-4214-92F9-CF84DAA1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E13B3-89B1-4C46-BBBD-647FD5BA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57B83-97E5-4C75-AEE9-80AC37ED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43C70-3600-43B5-A24D-7423B600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4C75-A6FA-4B0E-A519-9BC6438B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3AC77-08BC-4C48-8DB0-9A65D8A2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28539-BE9A-4B30-884D-BC12996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459EE-0A1A-4F33-B41E-A5AC7A75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2B85C-863B-47AB-A8F1-91BA36D2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0EEAA-7047-438F-9EB0-DCB8A35E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EAE4A-E88B-403D-9A2A-AAD0667A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532B6-F6FA-4FFD-98FB-CF9E785B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1F304-19C2-4D0F-9D3F-5374A1B6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C97D8-A132-4B21-A9D0-B73D5ABA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53525-8E6F-4825-9911-D6337649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E27E1-B8AE-4A83-B58D-A1C35F0B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7E560-A786-4610-83EC-314671E8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4CD49-353D-4EB5-AF16-E2BFFAD5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FC345-E942-41AA-BD29-E337C033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D84E2-251A-42AD-A872-D05E7F40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FF244-FC7D-4B17-97CC-2EB50FEF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11EAD-CEBF-4427-A6F0-A7602B10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81A00-FEC5-4248-BED7-1B1BA52F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E15D2-0AA1-4518-A053-65CA63A2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836D7-4D9D-43E8-970E-7678BA69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12E55-C5E7-4567-8B48-33D0FAEA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F9211-2665-42AC-BD37-88036890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F94DD-82C7-4C95-9410-11248701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11DD8-805A-4B67-B4B2-F84E704A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8221C-F934-4CA6-8B47-F9FB651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747C1-5598-4D1C-9259-82DBE66D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C058E9-5430-4F9B-BFB8-6F35769C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5E3F2-C982-4F79-9913-3F050A8B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2A6B3-310B-4FF0-BB38-355EFBEC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26DF2-595C-48B2-96C6-13CC6DCE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0041F-87A2-46DE-B4E3-C92512F4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45F731-A546-4DDC-82C4-FA112909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4A8FA-D19E-4D2F-A530-FACCBF4F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5CEE4-B40F-4AF0-A759-2F88451E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BFBE9-DD22-4C14-8576-0DF0745C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C0FBF-F3CD-4A61-8CA4-1DB68F81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CD872-8958-4985-966D-72C5D326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8F650-7B29-4C87-B90B-1B9A4223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C27A3-6F02-4F84-8F81-8D229C6A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C1A2B-6077-446E-A1BA-33294F8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C42B5-2222-4383-9D37-84F18D88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B2F66-ED72-464A-815D-D8EB9FBB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715271-0DC5-4E7A-82FB-50B98C84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A9D04-FBE6-4B89-B35B-3DDD42FD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91AD3-6B8E-44A8-BBA5-0B9634D3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B191C-F0BB-484B-AE6E-7B2840B7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E5B1ED-72BF-4F3E-902C-C9532DE0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FBDA7-3F92-471F-AA46-DCA8363D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BA6C1-6649-413B-8925-5EA60844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C5FC8-17CD-454A-807D-D7FE4D58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54B22-CFA5-4526-BCF2-A470D52C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16392F-1C9E-4C3D-85CB-377E178E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924D7-E250-4AD1-8632-DC589580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CA838-FDF8-45CE-9F56-0C03923E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7D1D41-3E24-4ABD-82F3-CAA18854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A86488-6BC9-4FE9-AF3B-31BC1BA3F3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055CE-46F5-4361-965F-CFA5970E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113B0-2484-44D8-8095-29B61571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C3072D-98C3-43B5-9DC6-194632C6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C27F2A-6356-4B7F-8362-39170A4A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8D9FF-D0BF-4550-B9B3-1E8C858A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35143-B037-4B61-A6DB-0C252B1C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5923C-CC4E-4B19-B27D-C43CEFE1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0C15A-5408-4150-AE6C-05E9D4E1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8D768D-9C07-41F6-8F6F-480AD1F8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0DA7D-FE37-4D5C-A70D-7AE6EB6D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EA6F2-EC30-4BB0-87B7-E0EDFE58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215719-BBD3-469B-869E-C1DB55A3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84C2E-5FFA-455C-A9E2-8BF34AA0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2ABB3F-EC71-494A-B4BB-9DF72A0C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40713-128D-47EE-AC59-1A5B6899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B8A2A1-48DB-4E19-A97D-AEB71BAF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157644-DA59-4FE0-B256-01E5744D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C002FA-5386-4AE0-BC0F-786E38CB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5E9D5-6860-4E13-BCB0-5F5482F9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780823-9D6C-4D2B-AF6F-E71C094A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7E756-9077-4766-905C-0B44441F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00988-6D0E-4482-94B0-94CB76C3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D966E1-5562-4CFB-86BA-DA881A48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D8B2FD-F3C1-464D-AFCB-5C7557FB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0797FD-73A5-41AF-A2CF-EC1E975A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F215D-8C5A-44A7-A66E-3FDC31F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4FF4C5-8214-41F3-B109-F65967D9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B057D-C6EC-489D-947F-40610BB2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52901-963F-4FDC-B54C-0D77914D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CA7A88-5156-47BF-99C6-E26F20B5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E5D7D-4B73-4977-87EB-04A88887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EC9372-C0B0-40C6-AFB8-96D0F500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006BB0-1F48-4558-8A6D-EF805A92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525CD3-14C6-4931-A197-88FBBCD4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FD437-D250-41ED-BB02-9BACAEEB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3CBE94-6F87-4F52-A19B-D19161BF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61751-2DEE-4EF0-B3D8-06E4C8FB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B81223-BFD0-4317-B39E-17196BEC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5D90EE-90BA-491D-ACBC-83AD31ED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B13CE9-079A-49EA-8C44-33A03B87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A2A591-A79E-4193-910D-162B1CFD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B12761-3BE0-4968-8961-616BD434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F0A6CA-099D-4071-B9CA-FF591AEA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CEE5-9DAC-4CAA-9814-3C0824EF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32B50-D826-4599-899A-E85ABBD9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53CAD-4FFD-4722-BBCC-33CCFD31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B0A7F-1A46-4881-A085-E07C788B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BB2AC-2B77-4B4A-8CB6-E12E5FD3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D3D4D-B4AD-4AFD-9E58-93C09F6E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996AF-263A-46D7-BD36-703C120B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B05955-2954-4062-AF3B-09EAB8ACCA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C911-4312-4766-B935-E8E6342C3B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78F9-DD2B-489F-B42B-EE509E37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117FA-84F8-43CE-AC0D-875E2540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3398-1F70-4419-89D5-94207C54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3372-63A0-4A8D-995A-DD5C2711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31C2-EE64-4F6D-AC25-FB880960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9826-C502-4261-9B7C-6B4AA861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CB42-7DA7-4F57-9C10-AD577B1D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0C336-3454-44ED-83BE-A43D7606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41E9-8D67-480E-B10D-4A103DF2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6A3A-42C0-4C01-A3C7-3282617A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2D96-D2BA-48FC-AE65-9D9B38C7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6AAD-1768-42FB-8640-578B46B0F8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0D2811-8760-46BB-B914-A7E3D641A8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E7B6-E6F4-4492-9C2A-D3AB0BCE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117BD-1A1F-4938-B21E-5DB72D68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211281-5BA0-4D78-9AF0-E4E956DE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F79A8-5109-4B4E-AC2F-49F2D123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70405-F3AF-4487-96C0-72791E0D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541A5-92E8-4786-8C2F-25FD56FD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F2644-8A22-4C0D-BBD3-9140B78B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607D5-1816-4D7B-A41C-3E2FCFC5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0DED11-362B-48A0-AB8C-35B000AE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99D71-D826-4F1F-B576-7BE1CF96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A79AD-2152-4FDD-ACD0-3024CFD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D78A-6D37-46CA-9A1D-8394EACE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025EB-F913-4BC6-AAD8-56203F877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C051A0-2157-402F-8408-E831C569B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F7F4ED-C6EA-439B-B50F-D89E956D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D923B7-891E-4700-AFA5-7A9B476A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5F085F-F9D1-4AF5-B34F-CD8F5B67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5916CB-0EE7-49AA-BA16-86F6B908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A12D27-B407-4BDA-9D4F-346D5301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811AAD-627E-427D-B7CE-A23F7D19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FAEB9-BE89-4A6C-9ABD-2C38DEA9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6ED5A5-30C0-4619-9243-D5F18EC2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C7865-DE7C-459B-8C1B-D465654C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0EC2F7-98F0-46A9-AD21-544619D4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AB236C-192D-41D8-A75A-00EAED53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907001-F78A-4962-BF6E-85A859B6D8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3E6BB-A5E4-4B7B-9B3C-9990004D21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CD590-8595-429B-86C8-45CE52B5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91E76-F333-44BD-84DE-0A07F101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F961-FE1A-4758-8550-02F6CE4E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F09C4-8409-435C-9D3A-DA703B99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28CC8-F859-4B0C-8235-6E6C0871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1C6FE-AB7D-42D0-85B1-0E27CF6D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4277-1ED5-40D1-9F54-1747D5EF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3D376-34F3-4C11-977B-B45430D0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31FE1-82A4-4490-B5E8-E073CC6F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8F534-905E-4ACD-9158-A43D33D1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B2476-A55B-41B0-85C2-DE9ED5D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627F3-CAFF-44EC-B2EA-56D343A517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121F24-8B4E-4780-BCD7-4140695B69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300A4-4DD7-4DAD-8144-EE1B4A63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F5A61-3E8D-4048-98BE-3F72A4E6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1EA9C-E2C6-4913-B443-AA150333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ECC00-F468-41F8-B6FC-88D87202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6E656-22BD-4BCF-BCF9-EDF36B7F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BDDDB-73CE-42AC-BC1E-3CC9129C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D0C9C-54CE-4646-ACC7-2062ED3A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86A6C-B94B-4E4B-BAB6-D148408F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3ED35-473D-4FBB-87D5-B8C60E09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E1725-E5D8-425E-91E1-A934F434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1CF69-F8ED-4BC9-9010-AB9067E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9F2FF-4FC1-467D-898F-497D39903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881C0C-3D27-4807-B85F-15D8A4C4C4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1691F1-3DA6-4E73-BE33-A6E0CCE5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7A5E4D-AB43-4B06-9590-13E20BB2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BB49-FEDC-4745-9E57-9CD1724C11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49BC-2357-40D8-8F1F-CD5E210543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1F80-FCCA-4C5A-8C4A-544407EB3E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E443-09A3-4E99-BDE8-6303487E63C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94A5-1013-44F3-A205-20C88D72427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78A1-8442-4A74-BADD-5DC7C03544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1A82-6EA3-4B03-B2EC-3606AE6415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1B4B-0BDD-4C82-BF3C-F9DD9DAFA6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368B-91F8-4C12-880C-A04040199B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286C-F3F7-4C0C-B9F6-097F4F5AA8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3928-812D-4462-8220-CF2DC53A21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7EBE-BD41-4E51-97AA-F057D995C6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8709-ABBE-49AE-A89A-54B69AC752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1000-EBB6-41A1-BAC4-3FFA9ED8798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2387-51E4-48AF-B426-770D5419DE5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4678-34E0-4CE7-A8B0-B92A679FB7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8B60-43F7-4B68-858E-ACE716F2FF4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FB6C-F382-4133-AA71-7CFC42F86A8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92F1-63FC-43B2-B6B2-1A004D8F284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6F5F-F73A-4F73-BCB9-FC609CB17C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06E7-C168-4DF0-8144-3545B8FD49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C74C-EE24-421A-865F-1D675726FA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E281-7E3B-4B4B-8288-3356639951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6621-C69B-4293-9B01-63CD8E7199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1901880" y="2757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6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7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认 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7640"/>
            <a:ext cx="5062320" cy="6120"/>
            <a:chOff x="2284560" y="2447640"/>
            <a:chExt cx="5062320" cy="6120"/>
          </a:xfrm>
        </p:grpSpPr>
        <p:sp>
          <p:nvSpPr>
            <p:cNvPr id="989" name="Line 10"/>
            <p:cNvSpPr/>
            <p:nvPr/>
          </p:nvSpPr>
          <p:spPr>
            <a:xfrm flipV="1">
              <a:off x="2284560" y="2447640"/>
              <a:ext cx="5062320" cy="612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 rot="10800000">
              <a:off x="2284560" y="2447280"/>
              <a:ext cx="506232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777960" y="181620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6~10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Picture 43" descr="166"/>
          <p:cNvPicPr/>
          <p:nvPr/>
        </p:nvPicPr>
        <p:blipFill>
          <a:blip r:embed="rId1"/>
          <a:stretch/>
        </p:blipFill>
        <p:spPr>
          <a:xfrm>
            <a:off x="611280" y="907920"/>
            <a:ext cx="7362720" cy="5440320"/>
          </a:xfrm>
          <a:prstGeom prst="rect">
            <a:avLst/>
          </a:prstGeom>
          <a:ln w="0">
            <a:noFill/>
          </a:ln>
        </p:spPr>
      </p:pic>
      <p:grpSp>
        <p:nvGrpSpPr>
          <p:cNvPr id="1110" name="Group 3"/>
          <p:cNvGrpSpPr/>
          <p:nvPr/>
        </p:nvGrpSpPr>
        <p:grpSpPr>
          <a:xfrm>
            <a:off x="500040" y="5164200"/>
            <a:ext cx="5857920" cy="569160"/>
            <a:chOff x="500040" y="5164200"/>
            <a:chExt cx="5857920" cy="569160"/>
          </a:xfrm>
        </p:grpSpPr>
        <p:sp>
          <p:nvSpPr>
            <p:cNvPr id="1111" name="TextBox 53"/>
            <p:cNvSpPr/>
            <p:nvPr/>
          </p:nvSpPr>
          <p:spPr>
            <a:xfrm>
              <a:off x="500040" y="5164200"/>
              <a:ext cx="5857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     的是第    缸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45"/>
            <p:cNvSpPr/>
            <p:nvPr/>
          </p:nvSpPr>
          <p:spPr>
            <a:xfrm>
              <a:off x="3371760" y="5321520"/>
              <a:ext cx="395280" cy="395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3" name="Picture 53" descr="165-1-1"/>
            <p:cNvPicPr/>
            <p:nvPr/>
          </p:nvPicPr>
          <p:blipFill>
            <a:blip r:embed="rId2"/>
            <a:stretch/>
          </p:blipFill>
          <p:spPr>
            <a:xfrm>
              <a:off x="1519200" y="5353200"/>
              <a:ext cx="611280" cy="36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4" name="Group 7"/>
          <p:cNvGrpSpPr/>
          <p:nvPr/>
        </p:nvGrpSpPr>
        <p:grpSpPr>
          <a:xfrm>
            <a:off x="500040" y="4578480"/>
            <a:ext cx="6467400" cy="569160"/>
            <a:chOff x="500040" y="4578480"/>
            <a:chExt cx="6467400" cy="569160"/>
          </a:xfrm>
        </p:grpSpPr>
        <p:sp>
          <p:nvSpPr>
            <p:cNvPr id="1115" name="TextBox 32"/>
            <p:cNvSpPr/>
            <p:nvPr/>
          </p:nvSpPr>
          <p:spPr>
            <a:xfrm>
              <a:off x="500040" y="4578480"/>
              <a:ext cx="64674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左边数第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缸有    条     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6" name="Picture 49" descr="165-1-1"/>
            <p:cNvPicPr/>
            <p:nvPr/>
          </p:nvPicPr>
          <p:blipFill>
            <a:blip r:embed="rId3"/>
            <a:stretch/>
          </p:blipFill>
          <p:spPr>
            <a:xfrm>
              <a:off x="4200480" y="4697280"/>
              <a:ext cx="6112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7" name="Rectangle 50"/>
            <p:cNvSpPr/>
            <p:nvPr/>
          </p:nvSpPr>
          <p:spPr>
            <a:xfrm>
              <a:off x="3249720" y="4690800"/>
              <a:ext cx="395280" cy="39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Group 11"/>
          <p:cNvGrpSpPr/>
          <p:nvPr/>
        </p:nvGrpSpPr>
        <p:grpSpPr>
          <a:xfrm>
            <a:off x="500040" y="3957480"/>
            <a:ext cx="5214960" cy="569160"/>
            <a:chOff x="500040" y="3957480"/>
            <a:chExt cx="5214960" cy="569160"/>
          </a:xfrm>
        </p:grpSpPr>
        <p:sp>
          <p:nvSpPr>
            <p:cNvPr id="1119" name="TextBox 84"/>
            <p:cNvSpPr/>
            <p:nvPr/>
          </p:nvSpPr>
          <p:spPr>
            <a:xfrm>
              <a:off x="500040" y="3957480"/>
              <a:ext cx="52149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共有    缸鱼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44"/>
            <p:cNvSpPr/>
            <p:nvPr/>
          </p:nvSpPr>
          <p:spPr>
            <a:xfrm>
              <a:off x="1735200" y="4097160"/>
              <a:ext cx="395280" cy="395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TextBox 35"/>
          <p:cNvSpPr/>
          <p:nvPr/>
        </p:nvSpPr>
        <p:spPr>
          <a:xfrm>
            <a:off x="1843200" y="1798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36"/>
          <p:cNvSpPr/>
          <p:nvPr/>
        </p:nvSpPr>
        <p:spPr>
          <a:xfrm>
            <a:off x="2635200" y="1798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40"/>
          <p:cNvSpPr/>
          <p:nvPr/>
        </p:nvSpPr>
        <p:spPr>
          <a:xfrm>
            <a:off x="3492360" y="17985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42"/>
          <p:cNvSpPr/>
          <p:nvPr/>
        </p:nvSpPr>
        <p:spPr>
          <a:xfrm>
            <a:off x="4286160" y="17985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43"/>
          <p:cNvSpPr/>
          <p:nvPr/>
        </p:nvSpPr>
        <p:spPr>
          <a:xfrm>
            <a:off x="5076720" y="17985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44"/>
          <p:cNvSpPr/>
          <p:nvPr/>
        </p:nvSpPr>
        <p:spPr>
          <a:xfrm>
            <a:off x="5799240" y="1798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46"/>
          <p:cNvSpPr/>
          <p:nvPr/>
        </p:nvSpPr>
        <p:spPr>
          <a:xfrm>
            <a:off x="3127320" y="4595760"/>
            <a:ext cx="639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64"/>
          <p:cNvSpPr/>
          <p:nvPr/>
        </p:nvSpPr>
        <p:spPr>
          <a:xfrm>
            <a:off x="1835280" y="287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66"/>
          <p:cNvSpPr/>
          <p:nvPr/>
        </p:nvSpPr>
        <p:spPr>
          <a:xfrm>
            <a:off x="2700360" y="2878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67"/>
          <p:cNvSpPr/>
          <p:nvPr/>
        </p:nvSpPr>
        <p:spPr>
          <a:xfrm>
            <a:off x="3500280" y="2878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68"/>
          <p:cNvSpPr/>
          <p:nvPr/>
        </p:nvSpPr>
        <p:spPr>
          <a:xfrm>
            <a:off x="4290840" y="2878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70"/>
          <p:cNvSpPr/>
          <p:nvPr/>
        </p:nvSpPr>
        <p:spPr>
          <a:xfrm>
            <a:off x="3279600" y="5235480"/>
            <a:ext cx="579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26"/>
          <p:cNvGrpSpPr/>
          <p:nvPr/>
        </p:nvGrpSpPr>
        <p:grpSpPr>
          <a:xfrm>
            <a:off x="4643280" y="406080"/>
            <a:ext cx="2592720" cy="785880"/>
            <a:chOff x="4643280" y="406080"/>
            <a:chExt cx="2592720" cy="785880"/>
          </a:xfrm>
        </p:grpSpPr>
        <p:pic>
          <p:nvPicPr>
            <p:cNvPr id="1134" name="Picture 53" descr="023"/>
            <p:cNvPicPr/>
            <p:nvPr/>
          </p:nvPicPr>
          <p:blipFill>
            <a:blip r:embed="rId4"/>
            <a:stretch/>
          </p:blipFill>
          <p:spPr>
            <a:xfrm flipH="1" rot="10800000">
              <a:off x="4643280" y="405720"/>
              <a:ext cx="2592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5" name="Rectangle 51"/>
            <p:cNvSpPr/>
            <p:nvPr/>
          </p:nvSpPr>
          <p:spPr>
            <a:xfrm flipH="1">
              <a:off x="5023800" y="549360"/>
              <a:ext cx="206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什么不同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TextBox 86"/>
          <p:cNvSpPr/>
          <p:nvPr/>
        </p:nvSpPr>
        <p:spPr>
          <a:xfrm>
            <a:off x="1590840" y="4010040"/>
            <a:ext cx="685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87"/>
          <p:cNvSpPr/>
          <p:nvPr/>
        </p:nvSpPr>
        <p:spPr>
          <a:xfrm>
            <a:off x="500040" y="5780160"/>
            <a:ext cx="5715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桌之间像这样互相提一个问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39"/>
          <p:cNvSpPr/>
          <p:nvPr/>
        </p:nvSpPr>
        <p:spPr>
          <a:xfrm>
            <a:off x="6591240" y="1798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48"/>
          <p:cNvSpPr/>
          <p:nvPr/>
        </p:nvSpPr>
        <p:spPr>
          <a:xfrm>
            <a:off x="5076720" y="2878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49"/>
          <p:cNvSpPr/>
          <p:nvPr/>
        </p:nvSpPr>
        <p:spPr>
          <a:xfrm>
            <a:off x="5813280" y="28526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7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34"/>
          <p:cNvGrpSpPr/>
          <p:nvPr/>
        </p:nvGrpSpPr>
        <p:grpSpPr>
          <a:xfrm>
            <a:off x="6489720" y="1712880"/>
            <a:ext cx="1143000" cy="501480"/>
            <a:chOff x="6489720" y="1712880"/>
            <a:chExt cx="1143000" cy="501480"/>
          </a:xfrm>
        </p:grpSpPr>
        <p:sp>
          <p:nvSpPr>
            <p:cNvPr id="1142" name="椭圆 29"/>
            <p:cNvSpPr/>
            <p:nvPr/>
          </p:nvSpPr>
          <p:spPr>
            <a:xfrm>
              <a:off x="6534000" y="1712880"/>
              <a:ext cx="997200" cy="50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Box 30"/>
            <p:cNvSpPr/>
            <p:nvPr/>
          </p:nvSpPr>
          <p:spPr>
            <a:xfrm>
              <a:off x="6489720" y="1768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第</a:t>
              </a:r>
              <a:r>
                <a:rPr b="1" lang="en-US" sz="2000" spc="-1" strike="noStrike">
                  <a:solidFill>
                    <a:srgbClr val="00b05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Group 37"/>
          <p:cNvGrpSpPr/>
          <p:nvPr/>
        </p:nvGrpSpPr>
        <p:grpSpPr>
          <a:xfrm>
            <a:off x="5735520" y="2349360"/>
            <a:ext cx="1143000" cy="479520"/>
            <a:chOff x="5735520" y="2349360"/>
            <a:chExt cx="1143000" cy="479520"/>
          </a:xfrm>
        </p:grpSpPr>
        <p:sp>
          <p:nvSpPr>
            <p:cNvPr id="1145" name="椭圆 79"/>
            <p:cNvSpPr/>
            <p:nvPr/>
          </p:nvSpPr>
          <p:spPr>
            <a:xfrm>
              <a:off x="5937120" y="2349360"/>
              <a:ext cx="708120" cy="47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Box 80"/>
            <p:cNvSpPr/>
            <p:nvPr/>
          </p:nvSpPr>
          <p:spPr>
            <a:xfrm>
              <a:off x="5735520" y="2398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Arial"/>
                  <a:ea typeface="方正楷体简体"/>
                </a:rPr>
                <a:t>7</a:t>
              </a:r>
              <a:r>
                <a:rPr b="1" lang="zh-CN" sz="20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TextBox 49"/>
          <p:cNvSpPr/>
          <p:nvPr/>
        </p:nvSpPr>
        <p:spPr>
          <a:xfrm>
            <a:off x="6661080" y="28465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5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Picture 52" descr="165-8"/>
          <p:cNvPicPr/>
          <p:nvPr/>
        </p:nvPicPr>
        <p:blipFill>
          <a:blip r:embed="rId5"/>
          <a:stretch/>
        </p:blipFill>
        <p:spPr>
          <a:xfrm>
            <a:off x="7236000" y="2241720"/>
            <a:ext cx="1908000" cy="15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1041 L -0.29341 0.18842 E">
                                      <p:cBhvr>
                                        <p:cTn id="301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"/>
                            </p:stCondLst>
                            <p:childTnLst>
                              <p:par>
                                <p:cTn id="36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"/>
                            </p:stCondLst>
                            <p:childTnLst>
                              <p:par>
                                <p:cTn id="37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"/>
                            </p:stCondLst>
                            <p:childTnLst>
                              <p:par>
                                <p:cTn id="37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"/>
                            </p:stCondLst>
                            <p:childTnLst>
                              <p:par>
                                <p:cTn id="37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"/>
                            </p:stCondLst>
                            <p:childTnLst>
                              <p:par>
                                <p:cTn id="38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"/>
                            </p:stCondLst>
                            <p:childTnLst>
                              <p:par>
                                <p:cTn id="38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8"/>
                            </p:stCondLst>
                            <p:childTnLst>
                              <p:par>
                                <p:cTn id="38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"/>
                            </p:stCondLst>
                            <p:childTnLst>
                              <p:par>
                                <p:cTn id="39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"/>
                            </p:stCondLst>
                            <p:childTnLst>
                              <p:par>
                                <p:cTn id="3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"/>
                            </p:stCondLst>
                            <p:childTnLst>
                              <p:par>
                                <p:cTn id="39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"/>
                            </p:stCondLst>
                            <p:childTnLst>
                              <p:par>
                                <p:cTn id="40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3"/>
                            </p:stCondLst>
                            <p:childTnLst>
                              <p:par>
                                <p:cTn id="40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4"/>
                            </p:stCondLst>
                            <p:childTnLst>
                              <p:par>
                                <p:cTn id="40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"/>
                            </p:stCondLst>
                            <p:childTnLst>
                              <p:par>
                                <p:cTn id="40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6"/>
                            </p:stCondLst>
                            <p:childTnLst>
                              <p:par>
                                <p:cTn id="41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"/>
                            </p:stCondLst>
                            <p:childTnLst>
                              <p:par>
                                <p:cTn id="4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4"/>
          <p:cNvSpPr/>
          <p:nvPr/>
        </p:nvSpPr>
        <p:spPr>
          <a:xfrm>
            <a:off x="684360" y="2411280"/>
            <a:ext cx="100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5"/>
          <p:cNvSpPr/>
          <p:nvPr/>
        </p:nvSpPr>
        <p:spPr>
          <a:xfrm>
            <a:off x="1908000" y="2411280"/>
            <a:ext cx="100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203640" y="2417760"/>
            <a:ext cx="936720" cy="1152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7"/>
          <p:cNvSpPr/>
          <p:nvPr/>
        </p:nvSpPr>
        <p:spPr>
          <a:xfrm>
            <a:off x="4859280" y="2338560"/>
            <a:ext cx="100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8"/>
          <p:cNvSpPr/>
          <p:nvPr/>
        </p:nvSpPr>
        <p:spPr>
          <a:xfrm>
            <a:off x="7740720" y="2417760"/>
            <a:ext cx="936720" cy="1152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9"/>
          <p:cNvSpPr/>
          <p:nvPr/>
        </p:nvSpPr>
        <p:spPr>
          <a:xfrm>
            <a:off x="6084720" y="2417760"/>
            <a:ext cx="936720" cy="1152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0"/>
          <p:cNvSpPr/>
          <p:nvPr/>
        </p:nvSpPr>
        <p:spPr>
          <a:xfrm>
            <a:off x="684360" y="4354560"/>
            <a:ext cx="100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1"/>
          <p:cNvSpPr/>
          <p:nvPr/>
        </p:nvSpPr>
        <p:spPr>
          <a:xfrm>
            <a:off x="4859280" y="4354560"/>
            <a:ext cx="100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2"/>
          <p:cNvSpPr/>
          <p:nvPr/>
        </p:nvSpPr>
        <p:spPr>
          <a:xfrm>
            <a:off x="3419640" y="4362480"/>
            <a:ext cx="100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13"/>
          <p:cNvSpPr/>
          <p:nvPr/>
        </p:nvSpPr>
        <p:spPr>
          <a:xfrm>
            <a:off x="7738920" y="4361040"/>
            <a:ext cx="936720" cy="1152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14"/>
          <p:cNvSpPr/>
          <p:nvPr/>
        </p:nvSpPr>
        <p:spPr>
          <a:xfrm>
            <a:off x="6083280" y="4361040"/>
            <a:ext cx="936720" cy="1152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15"/>
          <p:cNvSpPr/>
          <p:nvPr/>
        </p:nvSpPr>
        <p:spPr>
          <a:xfrm>
            <a:off x="1835280" y="4361040"/>
            <a:ext cx="936360" cy="1152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6"/>
          <p:cNvSpPr/>
          <p:nvPr/>
        </p:nvSpPr>
        <p:spPr>
          <a:xfrm>
            <a:off x="3274920" y="2346480"/>
            <a:ext cx="1225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7"/>
          <p:cNvSpPr/>
          <p:nvPr/>
        </p:nvSpPr>
        <p:spPr>
          <a:xfrm>
            <a:off x="7883640" y="4282920"/>
            <a:ext cx="122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8"/>
          <p:cNvSpPr/>
          <p:nvPr/>
        </p:nvSpPr>
        <p:spPr>
          <a:xfrm>
            <a:off x="6226200" y="4354560"/>
            <a:ext cx="122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19"/>
          <p:cNvSpPr/>
          <p:nvPr/>
        </p:nvSpPr>
        <p:spPr>
          <a:xfrm>
            <a:off x="1906560" y="4289400"/>
            <a:ext cx="122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0"/>
          <p:cNvSpPr/>
          <p:nvPr/>
        </p:nvSpPr>
        <p:spPr>
          <a:xfrm>
            <a:off x="7883640" y="2417760"/>
            <a:ext cx="122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1"/>
          <p:cNvSpPr/>
          <p:nvPr/>
        </p:nvSpPr>
        <p:spPr>
          <a:xfrm>
            <a:off x="6226200" y="2417760"/>
            <a:ext cx="122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13331"/>
          <p:cNvSpPr/>
          <p:nvPr/>
        </p:nvSpPr>
        <p:spPr>
          <a:xfrm>
            <a:off x="3609360" y="907920"/>
            <a:ext cx="247248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黑体"/>
              </a:rPr>
              <a:t> 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黑体"/>
              </a:rPr>
              <a:t>按顺序填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225105N53-25"/>
          <p:cNvPicPr/>
          <p:nvPr/>
        </p:nvPicPr>
        <p:blipFill>
          <a:blip r:embed="rId1"/>
          <a:stretch/>
        </p:blipFill>
        <p:spPr>
          <a:xfrm>
            <a:off x="1006560" y="357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5" descr="225105N53-25"/>
          <p:cNvPicPr/>
          <p:nvPr/>
        </p:nvPicPr>
        <p:blipFill>
          <a:blip r:embed="rId2"/>
          <a:stretch/>
        </p:blipFill>
        <p:spPr>
          <a:xfrm>
            <a:off x="4967280" y="357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6" descr="225105N53-25"/>
          <p:cNvPicPr/>
          <p:nvPr/>
        </p:nvPicPr>
        <p:blipFill>
          <a:blip r:embed="rId3"/>
          <a:stretch/>
        </p:blipFill>
        <p:spPr>
          <a:xfrm>
            <a:off x="1943280" y="357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7" descr="225105N53-25"/>
          <p:cNvPicPr/>
          <p:nvPr/>
        </p:nvPicPr>
        <p:blipFill>
          <a:blip r:embed="rId4"/>
          <a:stretch/>
        </p:blipFill>
        <p:spPr>
          <a:xfrm>
            <a:off x="3959280" y="357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8" descr="225105N53-25"/>
          <p:cNvPicPr/>
          <p:nvPr/>
        </p:nvPicPr>
        <p:blipFill>
          <a:blip r:embed="rId5"/>
          <a:stretch/>
        </p:blipFill>
        <p:spPr>
          <a:xfrm>
            <a:off x="2951280" y="357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1" descr="225105N53-25"/>
          <p:cNvPicPr/>
          <p:nvPr/>
        </p:nvPicPr>
        <p:blipFill>
          <a:blip r:embed="rId6"/>
          <a:stretch/>
        </p:blipFill>
        <p:spPr>
          <a:xfrm>
            <a:off x="6983280" y="357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2" descr="225105N53-25"/>
          <p:cNvPicPr/>
          <p:nvPr/>
        </p:nvPicPr>
        <p:blipFill>
          <a:blip r:embed="rId7"/>
          <a:stretch/>
        </p:blipFill>
        <p:spPr>
          <a:xfrm>
            <a:off x="5975280" y="357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75" name="WordArt 13" descr=""/>
          <p:cNvPicPr/>
          <p:nvPr/>
        </p:nvPicPr>
        <p:blipFill>
          <a:blip r:embed="rId8"/>
          <a:stretch/>
        </p:blipFill>
        <p:spPr>
          <a:xfrm>
            <a:off x="390600" y="1047600"/>
            <a:ext cx="7248600" cy="1111320"/>
          </a:xfrm>
          <a:prstGeom prst="rect">
            <a:avLst/>
          </a:prstGeom>
          <a:ln w="0">
            <a:noFill/>
          </a:ln>
        </p:spPr>
      </p:pic>
      <p:sp>
        <p:nvSpPr>
          <p:cNvPr id="1176" name="Oval 14"/>
          <p:cNvSpPr/>
          <p:nvPr/>
        </p:nvSpPr>
        <p:spPr>
          <a:xfrm>
            <a:off x="6877080" y="1628640"/>
            <a:ext cx="50328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15"/>
          <p:cNvSpPr/>
          <p:nvPr/>
        </p:nvSpPr>
        <p:spPr>
          <a:xfrm>
            <a:off x="1763640" y="2708280"/>
            <a:ext cx="6193080" cy="2376360"/>
          </a:xfrm>
          <a:prstGeom prst="ellipse">
            <a:avLst/>
          </a:pr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16"/>
          <p:cNvSpPr/>
          <p:nvPr/>
        </p:nvSpPr>
        <p:spPr>
          <a:xfrm>
            <a:off x="7238880" y="3284640"/>
            <a:ext cx="212760" cy="21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直接连接符 14348"/>
          <p:cNvSpPr/>
          <p:nvPr/>
        </p:nvSpPr>
        <p:spPr>
          <a:xfrm>
            <a:off x="1692360" y="1555920"/>
            <a:ext cx="863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直接连接符 14349"/>
          <p:cNvSpPr/>
          <p:nvPr/>
        </p:nvSpPr>
        <p:spPr>
          <a:xfrm>
            <a:off x="3059280" y="1555920"/>
            <a:ext cx="72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直接连接符 14350"/>
          <p:cNvSpPr/>
          <p:nvPr/>
        </p:nvSpPr>
        <p:spPr>
          <a:xfrm>
            <a:off x="826920" y="2203560"/>
            <a:ext cx="863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直接连接符 14351"/>
          <p:cNvSpPr/>
          <p:nvPr/>
        </p:nvSpPr>
        <p:spPr>
          <a:xfrm>
            <a:off x="1908000" y="2203560"/>
            <a:ext cx="100836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3" dur="2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Box 1"/>
          <p:cNvSpPr/>
          <p:nvPr/>
        </p:nvSpPr>
        <p:spPr>
          <a:xfrm>
            <a:off x="900000" y="205884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一二三四五六七，</a:t>
            </a:r>
            <a:br>
              <a:rPr sz="3600"/>
            </a:br>
            <a:r>
              <a:rPr b="1" lang="zh-CN" sz="36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七六五四三二一，</a:t>
            </a:r>
            <a:br>
              <a:rPr sz="3600"/>
            </a:br>
            <a:r>
              <a:rPr b="1" lang="zh-CN" sz="36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七个阿姨来摘果，</a:t>
            </a:r>
            <a:br>
              <a:rPr sz="3600"/>
            </a:br>
            <a:r>
              <a:rPr b="1" lang="zh-CN" sz="36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七个花篮手中提，</a:t>
            </a:r>
            <a:br>
              <a:rPr sz="3600"/>
            </a:br>
            <a:r>
              <a:rPr b="1" lang="zh-CN" sz="36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七个果子摆七样，</a:t>
            </a:r>
            <a:br>
              <a:rPr sz="3600"/>
            </a:br>
            <a:r>
              <a:rPr b="1" lang="zh-CN" sz="36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苹果、桃子、石榴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柿子、李子、栗子、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4"/>
          <p:cNvSpPr/>
          <p:nvPr/>
        </p:nvSpPr>
        <p:spPr>
          <a:xfrm>
            <a:off x="2411280" y="105084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七个阿姨来摘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20" descr="157"/>
          <p:cNvPicPr/>
          <p:nvPr/>
        </p:nvPicPr>
        <p:blipFill>
          <a:blip r:embed="rId1"/>
          <a:stretch/>
        </p:blipFill>
        <p:spPr>
          <a:xfrm>
            <a:off x="758880" y="739800"/>
            <a:ext cx="7074000" cy="5676840"/>
          </a:xfrm>
          <a:prstGeom prst="rect">
            <a:avLst/>
          </a:prstGeom>
          <a:ln w="0">
            <a:noFill/>
          </a:ln>
        </p:spPr>
      </p:pic>
      <p:grpSp>
        <p:nvGrpSpPr>
          <p:cNvPr id="999" name="Group 16"/>
          <p:cNvGrpSpPr/>
          <p:nvPr/>
        </p:nvGrpSpPr>
        <p:grpSpPr>
          <a:xfrm>
            <a:off x="3289320" y="452520"/>
            <a:ext cx="2011320" cy="689040"/>
            <a:chOff x="3289320" y="452520"/>
            <a:chExt cx="2011320" cy="689040"/>
          </a:xfrm>
        </p:grpSpPr>
        <p:pic>
          <p:nvPicPr>
            <p:cNvPr id="1000" name="Picture 53" descr="023"/>
            <p:cNvPicPr/>
            <p:nvPr/>
          </p:nvPicPr>
          <p:blipFill>
            <a:blip r:embed="rId2"/>
            <a:stretch/>
          </p:blipFill>
          <p:spPr>
            <a:xfrm>
              <a:off x="3289320" y="452520"/>
              <a:ext cx="20113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Rectangle 51"/>
            <p:cNvSpPr/>
            <p:nvPr/>
          </p:nvSpPr>
          <p:spPr>
            <a:xfrm>
              <a:off x="3600720" y="554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多少个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15"/>
          <p:cNvGrpSpPr/>
          <p:nvPr/>
        </p:nvGrpSpPr>
        <p:grpSpPr>
          <a:xfrm>
            <a:off x="5381640" y="426960"/>
            <a:ext cx="2476440" cy="797040"/>
            <a:chOff x="5381640" y="426960"/>
            <a:chExt cx="2476440" cy="797040"/>
          </a:xfrm>
        </p:grpSpPr>
        <p:pic>
          <p:nvPicPr>
            <p:cNvPr id="1003" name="Picture 53" descr="023"/>
            <p:cNvPicPr/>
            <p:nvPr/>
          </p:nvPicPr>
          <p:blipFill>
            <a:blip r:embed="rId3"/>
            <a:stretch/>
          </p:blipFill>
          <p:spPr>
            <a:xfrm>
              <a:off x="5381640" y="426960"/>
              <a:ext cx="247644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Rectangle 51"/>
            <p:cNvSpPr/>
            <p:nvPr/>
          </p:nvSpPr>
          <p:spPr>
            <a:xfrm>
              <a:off x="5628960" y="596520"/>
              <a:ext cx="18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看到了什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5" name="Picture 52" descr="P-055"/>
          <p:cNvPicPr/>
          <p:nvPr/>
        </p:nvPicPr>
        <p:blipFill>
          <a:blip r:embed="rId4"/>
          <a:stretch/>
        </p:blipFill>
        <p:spPr>
          <a:xfrm>
            <a:off x="7524720" y="476280"/>
            <a:ext cx="153036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组合 5121"/>
          <p:cNvGrpSpPr/>
          <p:nvPr/>
        </p:nvGrpSpPr>
        <p:grpSpPr>
          <a:xfrm>
            <a:off x="4614840" y="4214880"/>
            <a:ext cx="4508280" cy="1974960"/>
            <a:chOff x="4614840" y="4214880"/>
            <a:chExt cx="4508280" cy="1974960"/>
          </a:xfrm>
        </p:grpSpPr>
        <p:grpSp>
          <p:nvGrpSpPr>
            <p:cNvPr id="1007" name="组合 5122"/>
            <p:cNvGrpSpPr/>
            <p:nvPr/>
          </p:nvGrpSpPr>
          <p:grpSpPr>
            <a:xfrm>
              <a:off x="4614840" y="4790520"/>
              <a:ext cx="3024360" cy="1325520"/>
              <a:chOff x="4614840" y="4790520"/>
              <a:chExt cx="3024360" cy="1325520"/>
            </a:xfrm>
          </p:grpSpPr>
          <p:pic>
            <p:nvPicPr>
              <p:cNvPr id="1008" name="Picture 53" descr="023"/>
              <p:cNvPicPr/>
              <p:nvPr/>
            </p:nvPicPr>
            <p:blipFill>
              <a:blip r:embed="rId1"/>
              <a:stretch/>
            </p:blipFill>
            <p:spPr>
              <a:xfrm>
                <a:off x="4614840" y="4790520"/>
                <a:ext cx="3024360" cy="132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Rectangle 51"/>
              <p:cNvSpPr/>
              <p:nvPr/>
            </p:nvSpPr>
            <p:spPr>
              <a:xfrm>
                <a:off x="4758840" y="5077440"/>
                <a:ext cx="266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数一数，图中还有数量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的人和事物吗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0" name="图片 5125" descr="73-d8a3kjd7a%20(1048)[1]"/>
            <p:cNvPicPr/>
            <p:nvPr/>
          </p:nvPicPr>
          <p:blipFill>
            <a:blip r:embed="rId2"/>
            <a:stretch/>
          </p:blipFill>
          <p:spPr>
            <a:xfrm>
              <a:off x="7136640" y="4214880"/>
              <a:ext cx="1986480" cy="197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1" name="Picture 23" descr=""/>
          <p:cNvPicPr/>
          <p:nvPr/>
        </p:nvPicPr>
        <p:blipFill>
          <a:blip r:embed="rId3"/>
          <a:srcRect l="3480" t="0" r="0" b="8709"/>
          <a:stretch/>
        </p:blipFill>
        <p:spPr>
          <a:xfrm>
            <a:off x="5940360" y="1197000"/>
            <a:ext cx="1857600" cy="9396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20" descr="157"/>
          <p:cNvPicPr/>
          <p:nvPr/>
        </p:nvPicPr>
        <p:blipFill>
          <a:blip r:embed="rId4"/>
          <a:stretch/>
        </p:blipFill>
        <p:spPr>
          <a:xfrm>
            <a:off x="114480" y="1054080"/>
            <a:ext cx="5113080" cy="42480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21" descr="158-3"/>
          <p:cNvPicPr/>
          <p:nvPr/>
        </p:nvPicPr>
        <p:blipFill>
          <a:blip r:embed="rId5"/>
          <a:stretch/>
        </p:blipFill>
        <p:spPr>
          <a:xfrm>
            <a:off x="6445080" y="242100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27" descr="158-4"/>
          <p:cNvPicPr/>
          <p:nvPr/>
        </p:nvPicPr>
        <p:blipFill>
          <a:blip r:embed="rId6"/>
          <a:stretch/>
        </p:blipFill>
        <p:spPr>
          <a:xfrm>
            <a:off x="6445080" y="3645000"/>
            <a:ext cx="1087560" cy="942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28" descr="158"/>
          <p:cNvPicPr/>
          <p:nvPr/>
        </p:nvPicPr>
        <p:blipFill>
          <a:blip r:embed="rId7"/>
          <a:stretch/>
        </p:blipFill>
        <p:spPr>
          <a:xfrm>
            <a:off x="4861080" y="403200"/>
            <a:ext cx="4092480" cy="74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19" descr="158-11"/>
          <p:cNvPicPr/>
          <p:nvPr/>
        </p:nvPicPr>
        <p:blipFill>
          <a:blip r:embed="rId1"/>
          <a:stretch/>
        </p:blipFill>
        <p:spPr>
          <a:xfrm>
            <a:off x="4284720" y="476280"/>
            <a:ext cx="4722840" cy="8650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0" descr=""/>
          <p:cNvPicPr/>
          <p:nvPr/>
        </p:nvPicPr>
        <p:blipFill>
          <a:blip r:embed="rId2"/>
          <a:stretch/>
        </p:blipFill>
        <p:spPr>
          <a:xfrm>
            <a:off x="5581800" y="2349360"/>
            <a:ext cx="1752480" cy="939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4" descr="158-7"/>
          <p:cNvPicPr/>
          <p:nvPr/>
        </p:nvPicPr>
        <p:blipFill>
          <a:blip r:embed="rId3"/>
          <a:stretch/>
        </p:blipFill>
        <p:spPr>
          <a:xfrm>
            <a:off x="-1184400" y="476280"/>
            <a:ext cx="1006560" cy="8427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5" descr="158-9"/>
          <p:cNvPicPr/>
          <p:nvPr/>
        </p:nvPicPr>
        <p:blipFill>
          <a:blip r:embed="rId4"/>
          <a:stretch/>
        </p:blipFill>
        <p:spPr>
          <a:xfrm>
            <a:off x="7813800" y="242100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6" descr="158-10"/>
          <p:cNvPicPr/>
          <p:nvPr/>
        </p:nvPicPr>
        <p:blipFill>
          <a:blip r:embed="rId5"/>
          <a:stretch/>
        </p:blipFill>
        <p:spPr>
          <a:xfrm>
            <a:off x="6084720" y="4149720"/>
            <a:ext cx="2505240" cy="5684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20" descr="157"/>
          <p:cNvPicPr/>
          <p:nvPr/>
        </p:nvPicPr>
        <p:blipFill>
          <a:blip r:embed="rId6"/>
          <a:stretch/>
        </p:blipFill>
        <p:spPr>
          <a:xfrm>
            <a:off x="1440" y="1486080"/>
            <a:ext cx="5403960" cy="45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611 -9.3E-005 L 0.555486 0.003426 E">
                                      <p:cBhvr>
                                        <p:cTn id="52" dur="2000" fill="hold"/>
                                        <p:tgtEl>
                                          <p:spTgt spid="1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4" descr="159"/>
          <p:cNvPicPr/>
          <p:nvPr/>
        </p:nvPicPr>
        <p:blipFill>
          <a:blip r:embed="rId1"/>
          <a:stretch/>
        </p:blipFill>
        <p:spPr>
          <a:xfrm>
            <a:off x="1589040" y="1852560"/>
            <a:ext cx="5646960" cy="208764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51"/>
          <p:cNvSpPr/>
          <p:nvPr/>
        </p:nvSpPr>
        <p:spPr>
          <a:xfrm>
            <a:off x="1908000" y="4581360"/>
            <a:ext cx="3311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珠子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4116240" y="4597560"/>
            <a:ext cx="4125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上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51"/>
          <p:cNvSpPr/>
          <p:nvPr/>
        </p:nvSpPr>
        <p:spPr>
          <a:xfrm>
            <a:off x="1908000" y="5425920"/>
            <a:ext cx="3311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珠子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51"/>
          <p:cNvSpPr/>
          <p:nvPr/>
        </p:nvSpPr>
        <p:spPr>
          <a:xfrm>
            <a:off x="4116240" y="5442120"/>
            <a:ext cx="4125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上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51"/>
          <p:cNvSpPr/>
          <p:nvPr/>
        </p:nvSpPr>
        <p:spPr>
          <a:xfrm>
            <a:off x="5821200" y="4592520"/>
            <a:ext cx="838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51"/>
          <p:cNvSpPr/>
          <p:nvPr/>
        </p:nvSpPr>
        <p:spPr>
          <a:xfrm>
            <a:off x="5829480" y="5445000"/>
            <a:ext cx="860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15" descr="160"/>
          <p:cNvPicPr/>
          <p:nvPr/>
        </p:nvPicPr>
        <p:blipFill>
          <a:blip r:embed="rId2"/>
          <a:stretch/>
        </p:blipFill>
        <p:spPr>
          <a:xfrm>
            <a:off x="6659640" y="2603520"/>
            <a:ext cx="439560" cy="892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6" descr="160"/>
          <p:cNvPicPr/>
          <p:nvPr/>
        </p:nvPicPr>
        <p:blipFill>
          <a:blip r:embed="rId3"/>
          <a:stretch/>
        </p:blipFill>
        <p:spPr>
          <a:xfrm>
            <a:off x="6643800" y="2587680"/>
            <a:ext cx="439560" cy="8920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3" descr=""/>
          <p:cNvPicPr/>
          <p:nvPr/>
        </p:nvPicPr>
        <p:blipFill>
          <a:blip r:embed="rId4"/>
          <a:stretch/>
        </p:blipFill>
        <p:spPr>
          <a:xfrm>
            <a:off x="2006640" y="2475000"/>
            <a:ext cx="47628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"/>
                            </p:stCondLst>
                            <p:childTnLst>
                              <p:par>
                                <p:cTn id="80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21389 4.07407E-006 E">
                                      <p:cBhvr>
                                        <p:cTn id="81" dur="20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"/>
                            </p:stCondLst>
                            <p:childTnLst>
                              <p:par>
                                <p:cTn id="102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16615 4.07407E-006 E">
                                      <p:cBhvr>
                                        <p:cTn id="103" dur="20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9" descr="161"/>
          <p:cNvPicPr/>
          <p:nvPr/>
        </p:nvPicPr>
        <p:blipFill>
          <a:blip r:embed="rId1"/>
          <a:stretch/>
        </p:blipFill>
        <p:spPr>
          <a:xfrm>
            <a:off x="684360" y="1700280"/>
            <a:ext cx="7672320" cy="792000"/>
          </a:xfrm>
          <a:prstGeom prst="rect">
            <a:avLst/>
          </a:prstGeom>
          <a:ln w="0">
            <a:noFill/>
          </a:ln>
        </p:spPr>
      </p:pic>
      <p:sp>
        <p:nvSpPr>
          <p:cNvPr id="1033" name="Text Box 6"/>
          <p:cNvSpPr/>
          <p:nvPr/>
        </p:nvSpPr>
        <p:spPr>
          <a:xfrm>
            <a:off x="1000080" y="2879640"/>
            <a:ext cx="5443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前面是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7"/>
          <p:cNvSpPr/>
          <p:nvPr/>
        </p:nvSpPr>
        <p:spPr>
          <a:xfrm>
            <a:off x="1000080" y="3665520"/>
            <a:ext cx="5516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后面是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9"/>
          <p:cNvSpPr/>
          <p:nvPr/>
        </p:nvSpPr>
        <p:spPr>
          <a:xfrm>
            <a:off x="1000080" y="4386240"/>
            <a:ext cx="678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相邻数是（   ）和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0"/>
          <p:cNvSpPr/>
          <p:nvPr/>
        </p:nvSpPr>
        <p:spPr>
          <a:xfrm>
            <a:off x="3121200" y="2870280"/>
            <a:ext cx="79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3071880" y="3666960"/>
            <a:ext cx="879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3"/>
          <p:cNvSpPr/>
          <p:nvPr/>
        </p:nvSpPr>
        <p:spPr>
          <a:xfrm>
            <a:off x="3521160" y="4386240"/>
            <a:ext cx="753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4"/>
          <p:cNvSpPr/>
          <p:nvPr/>
        </p:nvSpPr>
        <p:spPr>
          <a:xfrm>
            <a:off x="5226120" y="4376880"/>
            <a:ext cx="844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4"/>
          <p:cNvSpPr/>
          <p:nvPr/>
        </p:nvSpPr>
        <p:spPr>
          <a:xfrm>
            <a:off x="6419880" y="1968480"/>
            <a:ext cx="934920" cy="398880"/>
          </a:xfrm>
          <a:prstGeom prst="rect">
            <a:avLst/>
          </a:prstGeom>
          <a:solidFill>
            <a:srgbClr val="dfa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(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4"/>
          <p:cNvSpPr/>
          <p:nvPr/>
        </p:nvSpPr>
        <p:spPr>
          <a:xfrm>
            <a:off x="7377120" y="1968480"/>
            <a:ext cx="965160" cy="398880"/>
          </a:xfrm>
          <a:prstGeom prst="rect">
            <a:avLst/>
          </a:prstGeom>
          <a:solidFill>
            <a:srgbClr val="dfa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(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22"/>
          <p:cNvGrpSpPr/>
          <p:nvPr/>
        </p:nvGrpSpPr>
        <p:grpSpPr>
          <a:xfrm>
            <a:off x="3919680" y="4522680"/>
            <a:ext cx="4830120" cy="1708200"/>
            <a:chOff x="3919680" y="4522680"/>
            <a:chExt cx="4830120" cy="1708200"/>
          </a:xfrm>
        </p:grpSpPr>
        <p:grpSp>
          <p:nvGrpSpPr>
            <p:cNvPr id="1043" name="Group 21"/>
            <p:cNvGrpSpPr/>
            <p:nvPr/>
          </p:nvGrpSpPr>
          <p:grpSpPr>
            <a:xfrm>
              <a:off x="3919680" y="4932000"/>
              <a:ext cx="3315960" cy="1298880"/>
              <a:chOff x="3919680" y="4932000"/>
              <a:chExt cx="3315960" cy="1298880"/>
            </a:xfrm>
          </p:grpSpPr>
          <p:pic>
            <p:nvPicPr>
              <p:cNvPr id="1044" name="Picture 53" descr="023"/>
              <p:cNvPicPr/>
              <p:nvPr/>
            </p:nvPicPr>
            <p:blipFill>
              <a:blip r:embed="rId2"/>
              <a:stretch/>
            </p:blipFill>
            <p:spPr>
              <a:xfrm>
                <a:off x="3919680" y="4932000"/>
                <a:ext cx="3315960" cy="129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5" name="Rectangle 51"/>
              <p:cNvSpPr/>
              <p:nvPr/>
            </p:nvSpPr>
            <p:spPr>
              <a:xfrm>
                <a:off x="4348080" y="5170320"/>
                <a:ext cx="2371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看着尺子图，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能想到什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6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092720" y="4522680"/>
              <a:ext cx="1657080" cy="1623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1066680" y="977760"/>
            <a:ext cx="1447920" cy="2667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3"/>
          <p:cNvSpPr/>
          <p:nvPr/>
        </p:nvSpPr>
        <p:spPr>
          <a:xfrm>
            <a:off x="1219320" y="31114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4"/>
          <p:cNvSpPr/>
          <p:nvPr/>
        </p:nvSpPr>
        <p:spPr>
          <a:xfrm>
            <a:off x="1219320" y="2597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5"/>
          <p:cNvSpPr/>
          <p:nvPr/>
        </p:nvSpPr>
        <p:spPr>
          <a:xfrm>
            <a:off x="1219320" y="208296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6"/>
          <p:cNvSpPr/>
          <p:nvPr/>
        </p:nvSpPr>
        <p:spPr>
          <a:xfrm>
            <a:off x="1219320" y="15685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7"/>
          <p:cNvSpPr/>
          <p:nvPr/>
        </p:nvSpPr>
        <p:spPr>
          <a:xfrm>
            <a:off x="1219320" y="10540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8"/>
          <p:cNvSpPr/>
          <p:nvPr/>
        </p:nvSpPr>
        <p:spPr>
          <a:xfrm>
            <a:off x="3848040" y="977760"/>
            <a:ext cx="1447920" cy="2667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9"/>
          <p:cNvSpPr/>
          <p:nvPr/>
        </p:nvSpPr>
        <p:spPr>
          <a:xfrm>
            <a:off x="4000680" y="31114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10"/>
          <p:cNvSpPr/>
          <p:nvPr/>
        </p:nvSpPr>
        <p:spPr>
          <a:xfrm>
            <a:off x="4000680" y="2597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11"/>
          <p:cNvSpPr/>
          <p:nvPr/>
        </p:nvSpPr>
        <p:spPr>
          <a:xfrm>
            <a:off x="4000680" y="208296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12"/>
          <p:cNvSpPr/>
          <p:nvPr/>
        </p:nvSpPr>
        <p:spPr>
          <a:xfrm>
            <a:off x="4000680" y="15685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13"/>
          <p:cNvSpPr/>
          <p:nvPr/>
        </p:nvSpPr>
        <p:spPr>
          <a:xfrm>
            <a:off x="4000680" y="10540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14"/>
          <p:cNvSpPr/>
          <p:nvPr/>
        </p:nvSpPr>
        <p:spPr>
          <a:xfrm>
            <a:off x="6400800" y="977760"/>
            <a:ext cx="1447920" cy="2667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15"/>
          <p:cNvSpPr/>
          <p:nvPr/>
        </p:nvSpPr>
        <p:spPr>
          <a:xfrm>
            <a:off x="6553080" y="31114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16"/>
          <p:cNvSpPr/>
          <p:nvPr/>
        </p:nvSpPr>
        <p:spPr>
          <a:xfrm>
            <a:off x="6553080" y="2597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17"/>
          <p:cNvSpPr/>
          <p:nvPr/>
        </p:nvSpPr>
        <p:spPr>
          <a:xfrm>
            <a:off x="6553080" y="208296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18"/>
          <p:cNvSpPr/>
          <p:nvPr/>
        </p:nvSpPr>
        <p:spPr>
          <a:xfrm>
            <a:off x="6553080" y="15685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19"/>
          <p:cNvSpPr/>
          <p:nvPr/>
        </p:nvSpPr>
        <p:spPr>
          <a:xfrm>
            <a:off x="6553080" y="10540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20"/>
          <p:cNvSpPr/>
          <p:nvPr/>
        </p:nvSpPr>
        <p:spPr>
          <a:xfrm>
            <a:off x="4648320" y="31114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21"/>
          <p:cNvSpPr/>
          <p:nvPr/>
        </p:nvSpPr>
        <p:spPr>
          <a:xfrm>
            <a:off x="7238880" y="31114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22"/>
          <p:cNvSpPr/>
          <p:nvPr/>
        </p:nvSpPr>
        <p:spPr>
          <a:xfrm>
            <a:off x="7238880" y="2597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23"/>
          <p:cNvSpPr/>
          <p:nvPr/>
        </p:nvSpPr>
        <p:spPr>
          <a:xfrm>
            <a:off x="2178000" y="4249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24"/>
          <p:cNvSpPr/>
          <p:nvPr/>
        </p:nvSpPr>
        <p:spPr>
          <a:xfrm>
            <a:off x="3778200" y="4249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26"/>
          <p:cNvSpPr/>
          <p:nvPr/>
        </p:nvSpPr>
        <p:spPr>
          <a:xfrm>
            <a:off x="4835520" y="4249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27"/>
          <p:cNvSpPr/>
          <p:nvPr/>
        </p:nvSpPr>
        <p:spPr>
          <a:xfrm>
            <a:off x="6435720" y="4249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29"/>
          <p:cNvSpPr/>
          <p:nvPr/>
        </p:nvSpPr>
        <p:spPr>
          <a:xfrm>
            <a:off x="2178000" y="5300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0"/>
          <p:cNvSpPr/>
          <p:nvPr/>
        </p:nvSpPr>
        <p:spPr>
          <a:xfrm>
            <a:off x="3778200" y="5300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32"/>
          <p:cNvSpPr/>
          <p:nvPr/>
        </p:nvSpPr>
        <p:spPr>
          <a:xfrm>
            <a:off x="4835520" y="5300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3"/>
          <p:cNvSpPr/>
          <p:nvPr/>
        </p:nvSpPr>
        <p:spPr>
          <a:xfrm>
            <a:off x="6435720" y="5300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椭圆 9247"/>
          <p:cNvSpPr/>
          <p:nvPr/>
        </p:nvSpPr>
        <p:spPr>
          <a:xfrm>
            <a:off x="5581800" y="4367160"/>
            <a:ext cx="574560" cy="576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椭圆 9248"/>
          <p:cNvSpPr/>
          <p:nvPr/>
        </p:nvSpPr>
        <p:spPr>
          <a:xfrm>
            <a:off x="5581800" y="5446800"/>
            <a:ext cx="574560" cy="576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23"/>
          <p:cNvSpPr/>
          <p:nvPr/>
        </p:nvSpPr>
        <p:spPr>
          <a:xfrm>
            <a:off x="5662080" y="5446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9250"/>
          <p:cNvSpPr/>
          <p:nvPr/>
        </p:nvSpPr>
        <p:spPr>
          <a:xfrm>
            <a:off x="5662080" y="436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椭圆 9251"/>
          <p:cNvSpPr/>
          <p:nvPr/>
        </p:nvSpPr>
        <p:spPr>
          <a:xfrm>
            <a:off x="2916360" y="4367160"/>
            <a:ext cx="576000" cy="576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椭圆 9252"/>
          <p:cNvSpPr/>
          <p:nvPr/>
        </p:nvSpPr>
        <p:spPr>
          <a:xfrm>
            <a:off x="2916360" y="5446800"/>
            <a:ext cx="576000" cy="576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3"/>
          <p:cNvSpPr/>
          <p:nvPr/>
        </p:nvSpPr>
        <p:spPr>
          <a:xfrm>
            <a:off x="2998440" y="5446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9254"/>
          <p:cNvSpPr/>
          <p:nvPr/>
        </p:nvSpPr>
        <p:spPr>
          <a:xfrm>
            <a:off x="2998440" y="436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组合 2"/>
          <p:cNvGrpSpPr/>
          <p:nvPr/>
        </p:nvGrpSpPr>
        <p:grpSpPr>
          <a:xfrm>
            <a:off x="-41400" y="142920"/>
            <a:ext cx="3546720" cy="525240"/>
            <a:chOff x="-41400" y="142920"/>
            <a:chExt cx="3546720" cy="525240"/>
          </a:xfrm>
        </p:grpSpPr>
        <p:pic>
          <p:nvPicPr>
            <p:cNvPr id="108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25640" y="142920"/>
              <a:ext cx="337968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6" name="组合 4"/>
            <p:cNvGrpSpPr/>
            <p:nvPr/>
          </p:nvGrpSpPr>
          <p:grpSpPr>
            <a:xfrm>
              <a:off x="-41400" y="237600"/>
              <a:ext cx="470880" cy="273240"/>
              <a:chOff x="-41400" y="237600"/>
              <a:chExt cx="470880" cy="273240"/>
            </a:xfrm>
          </p:grpSpPr>
          <p:sp>
            <p:nvSpPr>
              <p:cNvPr id="1087" name="椭圆 11"/>
              <p:cNvSpPr/>
              <p:nvPr/>
            </p:nvSpPr>
            <p:spPr>
              <a:xfrm rot="16200000">
                <a:off x="208800" y="398880"/>
                <a:ext cx="100440" cy="123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1680" y="355680"/>
                <a:ext cx="217800" cy="1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椭圆 29"/>
              <p:cNvSpPr/>
              <p:nvPr/>
            </p:nvSpPr>
            <p:spPr>
              <a:xfrm rot="16200000">
                <a:off x="208800" y="270360"/>
                <a:ext cx="100440" cy="123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1680" y="250920"/>
                <a:ext cx="21780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1400" y="370800"/>
                <a:ext cx="396000" cy="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1400" y="344520"/>
                <a:ext cx="396000" cy="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41400" y="263520"/>
                <a:ext cx="396000" cy="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41400" y="237600"/>
                <a:ext cx="396000" cy="92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5" name="TextBox 1"/>
          <p:cNvSpPr/>
          <p:nvPr/>
        </p:nvSpPr>
        <p:spPr>
          <a:xfrm>
            <a:off x="388800" y="120600"/>
            <a:ext cx="3407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  <a:ea typeface="宋体"/>
              </a:rPr>
              <a:t>数一数，比一比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"/>
          <p:cNvSpPr/>
          <p:nvPr/>
        </p:nvSpPr>
        <p:spPr>
          <a:xfrm>
            <a:off x="100080" y="93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8ec"/>
                </a:solidFill>
                <a:latin typeface="Arial"/>
                <a:ea typeface="宋体"/>
              </a:rPr>
              <a:t>想一想</a:t>
            </a:r>
            <a:r>
              <a:rPr b="0" lang="en-US" sz="4000" spc="-1" strike="noStrike">
                <a:solidFill>
                  <a:srgbClr val="d9d8ec"/>
                </a:solidFill>
                <a:latin typeface="Arial"/>
              </a:rPr>
              <a:t>:   6</a:t>
            </a:r>
            <a:r>
              <a:rPr b="0" lang="zh-CN" sz="4000" spc="-1" strike="noStrike">
                <a:solidFill>
                  <a:srgbClr val="d9d8ec"/>
                </a:solidFill>
                <a:latin typeface="Arial"/>
                <a:ea typeface="宋体"/>
              </a:rPr>
              <a:t>＞</a:t>
            </a:r>
            <a:r>
              <a:rPr b="0" lang="en-US" sz="4000" spc="-1" strike="noStrike">
                <a:solidFill>
                  <a:srgbClr val="d9d8ec"/>
                </a:solidFill>
                <a:latin typeface="Arial"/>
              </a:rPr>
              <a:t>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3"/>
          <p:cNvSpPr/>
          <p:nvPr/>
        </p:nvSpPr>
        <p:spPr>
          <a:xfrm>
            <a:off x="2027160" y="2349360"/>
            <a:ext cx="21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＞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4"/>
          <p:cNvSpPr/>
          <p:nvPr/>
        </p:nvSpPr>
        <p:spPr>
          <a:xfrm>
            <a:off x="5121360" y="3716280"/>
            <a:ext cx="21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＞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5"/>
          <p:cNvSpPr/>
          <p:nvPr/>
        </p:nvSpPr>
        <p:spPr>
          <a:xfrm>
            <a:off x="5122800" y="2421000"/>
            <a:ext cx="21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＞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6"/>
          <p:cNvSpPr/>
          <p:nvPr/>
        </p:nvSpPr>
        <p:spPr>
          <a:xfrm>
            <a:off x="2028600" y="3573360"/>
            <a:ext cx="21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＞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7"/>
          <p:cNvSpPr/>
          <p:nvPr/>
        </p:nvSpPr>
        <p:spPr>
          <a:xfrm>
            <a:off x="2028600" y="4797360"/>
            <a:ext cx="21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＞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2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8ec"/>
                </a:solidFill>
                <a:latin typeface="Arial"/>
                <a:ea typeface="宋体"/>
              </a:rPr>
              <a:t>想一想</a:t>
            </a:r>
            <a:r>
              <a:rPr b="0" lang="en-US" sz="4000" spc="-1" strike="noStrike">
                <a:solidFill>
                  <a:srgbClr val="d9d8ec"/>
                </a:solidFill>
                <a:latin typeface="Arial"/>
              </a:rPr>
              <a:t>:   (   )</a:t>
            </a:r>
            <a:r>
              <a:rPr b="0" lang="zh-CN" sz="4000" spc="-1" strike="noStrike">
                <a:solidFill>
                  <a:srgbClr val="d9d8ec"/>
                </a:solidFill>
                <a:latin typeface="Arial"/>
                <a:ea typeface="宋体"/>
              </a:rPr>
              <a:t>＜</a:t>
            </a:r>
            <a:r>
              <a:rPr b="0" lang="en-US" sz="4000" spc="-1" strike="noStrike">
                <a:solidFill>
                  <a:srgbClr val="d9d8ec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3"/>
          <p:cNvSpPr/>
          <p:nvPr/>
        </p:nvSpPr>
        <p:spPr>
          <a:xfrm>
            <a:off x="1738080" y="2421000"/>
            <a:ext cx="21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＜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4"/>
          <p:cNvSpPr/>
          <p:nvPr/>
        </p:nvSpPr>
        <p:spPr>
          <a:xfrm>
            <a:off x="5338800" y="3716280"/>
            <a:ext cx="21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＜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5338800" y="2421000"/>
            <a:ext cx="21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＜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6"/>
          <p:cNvSpPr/>
          <p:nvPr/>
        </p:nvSpPr>
        <p:spPr>
          <a:xfrm>
            <a:off x="1738080" y="3573360"/>
            <a:ext cx="21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＜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7"/>
          <p:cNvSpPr/>
          <p:nvPr/>
        </p:nvSpPr>
        <p:spPr>
          <a:xfrm>
            <a:off x="1739880" y="4797360"/>
            <a:ext cx="21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＜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8"/>
          <p:cNvSpPr/>
          <p:nvPr/>
        </p:nvSpPr>
        <p:spPr>
          <a:xfrm>
            <a:off x="5338800" y="4941720"/>
            <a:ext cx="21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＜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47:15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